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580-59A8-4986-A1FF-32CA69B8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01A-2210-4D70-8F1E-E82FD1BF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575-D37F-4781-87AB-ECBF06ED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BDB-55B9-42BF-B8C5-6D2590E2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4155-5EA1-4488-8D36-8A14AB60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1128A-0338-49EE-9317-75A7D8A9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EDF00-812F-4DC0-B1FE-93F2F216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4DA5C-1CAD-4984-88A7-9061B710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5CB55-6D9B-475F-845B-93D624FB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4D666-508D-4936-BA80-819CD6A1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99826-A129-48F7-8784-328019AB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E08-1B00-4A53-8059-8E9FFF17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DC1FE-284B-43FC-ABC3-2E7D796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5B7F8-E87D-40CD-93CC-5C963A46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E0444-A5C7-4B55-A6F2-D5046B02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71EEB-A17B-463B-8650-4FF519AA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F581C-B3C8-4F28-B199-47562D6E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9AE9-6CFA-451E-B1A2-377046E6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ABB2-068D-44A4-B722-A95E864D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31C15-51E4-413A-8AFF-6D013087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397B-7EA0-4EE2-B56E-FFAC4FC9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1C42-4229-4D4C-94D4-FC411E5D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655-E3FB-46FE-A9FF-F3343B7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B25C-B114-4490-9EE2-620298B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8142-1EAF-4E5F-BC62-6977B71E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CE6A-CDE7-4913-B4EC-CFC75DC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7094-ADBD-4658-A60B-512DAC8A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6B27-04E1-4A5C-8D02-CD173678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36C6-2DB3-4DCA-9742-E038E7AE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D039-EBB3-4AAE-9370-BF733FED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550-E815-4922-B13E-197E145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7EF-9DB6-42E3-89E1-3DCE0F4F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93A-5ECA-41BA-B63C-F234C935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CDB-3A7E-4C6B-86EA-AB07FC94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7A7-A895-4CEC-8412-4FAC9339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45B-6324-4CDC-A777-E726AB75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3871-FE8C-404C-BFF3-BE0F13E7B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E48D-34DC-4B4A-9DBF-22291E75C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AE8A-740C-4A96-BCF1-6296F4380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Bradley Hand IT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Tahoma"/>
              </a:rPr>
              <a:t>By: Nicole Hil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52520" y="2265480"/>
            <a:ext cx="4638960" cy="23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 vacaciones a la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ican Republic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erida Aman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 llegue al hotel. Es muy bonito y grande. La playa es preciosa. La piscina es muy grande. En el mar hay olas grandes. Hace ca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 todo mi car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622680" cy="241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3695760"/>
            <a:ext cx="3686040" cy="276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124080" y="457200"/>
            <a:ext cx="2076480" cy="49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 Hot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99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Querido El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La playa es muy grande, y bonita. La arena es suave. Hoy tomamos el sol. Nosotros practicamos el esqui aquatica en el mar. Fuimos al surfing. Nosotros usamos crema protectora. Las olas son muy gran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Con todo mi cari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1280" y="0"/>
            <a:ext cx="163836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ne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99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da Fay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hace mal tiempo, y lleve. No fui a la playa. Fuimos a una pista de tenis cubierta. Un jugador gol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la pelota. La pelota pa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r encima de la red. Jugaron si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todo mi carino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3657600" y="380880"/>
            <a:ext cx="1895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r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0099cc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da madd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y mis hermanas y yo fuimos a la tienda de ropa. Compramos nuevo traje de baño. Des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uimos a nadar en la piscina. Me gusta ir de compras. Una dia muy buen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todo mi carin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6094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Verdana"/>
              </a:rPr>
              <a:t>Mierco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695600"/>
            <a:ext cx="380988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Querida mi abu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Hoy fuimos a cenar, a un restaurante. Fui a Con mi familia. Un restaurant es muy elegante. Mi com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un jamon. Es muy delicioso. Despu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s de come helado. Tengo un helado de chocolate. Me gusta un helado chocol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Con todo mi cari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Ni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05320" y="457200"/>
            <a:ext cx="2171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ueves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Querido mi abue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oy fui a la piscina cerca del hotel. Hace color. El sol brilla en el cielo. Yo buce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con mis hermanas. Llev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è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mi traje de baño. El agua est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á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caliente. Tom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è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el sol con mi hermana. Us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é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rema protect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n todo mi cari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693396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886200" y="533520"/>
            <a:ext cx="1724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ierne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9:51Z</dcterms:created>
  <dc:creator>hillnic</dc:creator>
  <dc:description/>
  <dc:language>en-US</dc:language>
  <cp:lastModifiedBy>hillnic</cp:lastModifiedBy>
  <dcterms:modified xsi:type="dcterms:W3CDTF">2011-12-01T18:43:51Z</dcterms:modified>
  <cp:revision>14</cp:revision>
  <dc:subject/>
  <dc:title> Me vacaDominican Republic </dc:title>
</cp:coreProperties>
</file>